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17B-ED35-4444-8171-D14B8039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B12-FC0E-4E38-92AF-80C7849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93-95F2-4A0E-AE08-C89F5AB5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F07-4550-45F4-B52E-2DBD3ABE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8B0-34FB-4E41-984C-12C28C5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492-1DA4-4183-B892-C859B06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D79-B377-4C51-9FDF-6BC7F56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2FD-107B-42B0-9AFD-AEBED879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FC7-FB00-41FC-A05D-BCD4D04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14D-E640-494D-B337-2E3E374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5D6-4F6C-4F0E-965A-94CC3A3E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FC4-6A5F-47D9-AA58-FD23826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EB1-4EB3-4E33-8B2B-9184CC6F4B92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24280" y="609480"/>
            <a:ext cx="42674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 ل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ن كان الآب يمنحني الغفر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لا أعلن توب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و يشاءُ خلاصَ الإنس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أعمل بمشيئ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62160" y="3657600"/>
            <a:ext cx="66196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ارَ أمامي ليعطيني الرجاء، لماذا أتبع شريع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اتَ وقامَ ليعطيني الحياة، لمَِ أموتُ في خطيئ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4495680"/>
            <a:ext cx="8001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إن كان الآب ينبوع الأمان، لماذا لا أسرع وأستق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لِمَ لا أرجع إليه الآن، فالوقتُ ضائعٌ في غرب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90720" y="4267080"/>
            <a:ext cx="6943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ضمَّ أوجاعي بين ساعديه، لِمَ أضيعُ سعاد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رسلني لأنشرَ السلام، لِمَ لا أبدءُ بخطو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5400" y="4838760"/>
            <a:ext cx="715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إن كان يحملُ عني الأعباء، لماذا أنحني بأثقال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أعدَّ لي جسراً نحو السماء، لا لن أموتَ في خطيئ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01:16Z</dcterms:created>
  <dc:creator>user</dc:creator>
  <dc:description/>
  <dc:language>en-US</dc:language>
  <cp:lastModifiedBy>user</cp:lastModifiedBy>
  <dcterms:modified xsi:type="dcterms:W3CDTF">2006-09-01T16:35:09Z</dcterms:modified>
  <cp:revision>11</cp:revision>
  <dc:subject/>
  <dc:title>Slide 1</dc:title>
</cp:coreProperties>
</file>